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4EAE-BF20-4BF6-BCDB-DB73C4A3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B614-D651-4DF9-B007-D905AD4D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2EAC-BCC2-4D73-B87A-19A49AC14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FDFB-9FA2-4F51-9DC7-A312E6A4C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C7C1-06A1-4E83-BB1A-9D618885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6831-7579-4FD1-8894-93557AE1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6CC7-CE88-471F-977F-CFC031E8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B5B4-1200-437B-9ED9-191B7841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CBBA-20BB-4ADB-9F68-8C28F48D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62DA-79C3-4648-8FB1-4DDDEBF2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FABD-EF5E-4036-ADD1-351C2C4A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DB66-4BDA-4532-962A-E5E51D7A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1DB3-E44F-4032-9045-8ED769994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support.google.com/sites/bin/answer.py?hl=en&amp;answer=153098&amp;topic=23216&amp;rd=1" TargetMode="External"/><Relationship Id="rId2" Type="http://schemas.openxmlformats.org/officeDocument/2006/relationships/hyperlink" Target="https://sites.google.com/a/googleclassrooms.org/mrs-richau/Home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ORTANT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7631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 Gmail Account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l.google.c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Easy Beginner’s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t: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support.google.com/sites/bin/answer.py?hl=en&amp;answer=153098&amp;topic=23216&amp;rd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Google:  Google Websites Beginner’s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s--S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GLE WEB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781680" y="533520"/>
            <a:ext cx="2086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By Janet Zilk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281560"/>
            <a:ext cx="8839080" cy="15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Mrs. 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cc00"/>
                </a:solidFill>
                <a:latin typeface="Comic Sans MS"/>
              </a:rPr>
              <a:t>Available a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https://sites.google.com/a/googleclassrooms.org/mrs-richau/H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rs. Zilk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cc00"/>
                </a:solidFill>
                <a:latin typeface="Comic Sans MS"/>
              </a:rPr>
              <a:t>Available a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ttp://sites.google.com/site/zilkashs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457200" y="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ING YOUR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629400" y="762120"/>
            <a:ext cx="2200320" cy="1985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685800" y="1219320"/>
            <a:ext cx="47242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ign in at: sites.google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80880" y="1828800"/>
            <a:ext cx="4648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Click the Create Site Butt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880" y="2438280"/>
            <a:ext cx="1874880" cy="3276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3352680" y="3352680"/>
            <a:ext cx="5410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Choose a Templa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419720" y="5191200"/>
            <a:ext cx="4533840" cy="1666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H="1">
            <a:off x="1904760" y="2438280"/>
            <a:ext cx="11430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28600" y="685800"/>
            <a:ext cx="6172200" cy="530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5791320" y="304920"/>
            <a:ext cx="1371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INK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257440" y="3962520"/>
            <a:ext cx="76212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4572000" cy="2224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380880"/>
            <a:ext cx="6019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Name Your Si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705720" y="2362320"/>
            <a:ext cx="1752480" cy="1199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343400" y="1523880"/>
            <a:ext cx="4343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ype in the Co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57200" y="3733920"/>
            <a:ext cx="2057400" cy="1082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743200" y="3886200"/>
            <a:ext cx="1828800" cy="852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952880" y="3886200"/>
            <a:ext cx="20574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2590920" cy="4576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743200" y="457200"/>
            <a:ext cx="2143080" cy="4686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914400" y="5638680"/>
            <a:ext cx="7315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hanging the Side Bar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257800" y="685800"/>
            <a:ext cx="355428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09480" y="1295280"/>
            <a:ext cx="815364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hen you are finished,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IGN OUT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733920" y="3200400"/>
            <a:ext cx="3232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Material for this presentation can be found at:  http://sites.google.com/site/zilkash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Teacher Workshop 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20:53:30Z</dcterms:created>
  <dc:creator>Peter J. Zilka</dc:creator>
  <dc:description/>
  <dc:language>en-US</dc:language>
  <cp:lastModifiedBy>SHS</cp:lastModifiedBy>
  <dcterms:modified xsi:type="dcterms:W3CDTF">2012-02-15T18:33:54Z</dcterms:modified>
  <cp:revision>18</cp:revision>
  <dc:subject/>
  <dc:title>GOOGLE WEB PAGES</dc:title>
</cp:coreProperties>
</file>